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93291843-FFE3-4AD8-A02B-6408D8EFD9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39680" y="712800"/>
            <a:ext cx="5021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18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CFC-6340-4D88-8971-1B0954B0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571-D551-41A1-8173-465E16AA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185-19F4-4934-ABCA-0AF4BE48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CD6-0588-426F-8074-D712099B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C2C-D96A-4831-86E7-014274E3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894-3B13-4F9F-846B-5B075003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44E-FDE5-4450-8EB6-BF5A2203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0AD-FD24-45F2-9239-D7D78263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FBE-AFB2-4FF8-BD45-FF4C2ECE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608-6255-4CE0-940F-C66A4B8E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9BD-EF1E-4C11-AAA1-D522948B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5CA-2CD6-495A-91F6-BB7AECCD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6157FC-DE96-4DB8-8AA7-74B3BAA328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266480" y="2065320"/>
            <a:ext cx="762696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Praises Heard Around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The World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1189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rd your love has saved u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recious blood has bathed u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Now your message takes us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ll around the worl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an’t you hear them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ar them sing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people they’re rejoicing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one voice they are shout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inging hal-le, halleluja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raises heard around the worl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1189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o all creatio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ach and every natio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nding your salvation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 around the worl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an’t you hear them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ar them sing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people they’re rejoicing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one voice they are shout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inging hal-le, halleluja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raises heard around the worl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8360" y="1189080"/>
            <a:ext cx="90676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ainst the demons fight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ly Spirit guid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mily we’re unit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 around the worl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an’t you hear them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Hear them sing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people they’re rejoicing,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With one voice they are shouting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inging hal-le, hallelujah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raises heard around the world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Peter</cp:lastModifiedBy>
  <dcterms:modified xsi:type="dcterms:W3CDTF">2011-05-18T02:25:09Z</dcterms:modified>
  <cp:revision>1913</cp:revision>
  <dc:subject/>
  <dc:title>Slide 1</dc:title>
</cp:coreProperties>
</file>